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1679-2CA6-495D-BEAA-3A27733A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6CEB-73F4-44A9-BEEC-C4607109D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5E3D-106F-44EB-B5DE-813621193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3CC5-DB92-4CF1-9C6D-69522E415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4906-747F-4ADA-A463-480FCC63F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5A95-5A71-4A2C-AB5F-8FAB5CDDE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51D6-7046-4A9D-A416-6F5C0AD3C0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C2C9-D694-4022-B5CC-F74156AD36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5471-CFF5-45A7-8BE9-69D6E3FF3B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4E8B-8FC3-4178-B5EE-CAEDE0ABE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5FAC-8C32-4EAB-9C4B-19458BFE2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DD10-85EC-4C42-A0D8-9BCA978A6F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9FDE-0075-44D9-B4DA-A4FD927CA1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6F99-8318-47ED-B374-1EA8A5D478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715B-0222-4B36-8FCC-55EFB51F75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1803-C74D-44A4-83AD-A586E9558D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579C-A5FF-4FBD-9F61-40B04ABEFD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D2E7-F31E-4220-81A7-84659C74D6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A66-F466-4D36-8AC1-66F0417B94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213-1DCF-43C3-877F-F2659914BE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9F4-15B9-49F2-BC72-62211DA29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A8CB-D0CC-42E8-9C74-F0401D02DA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2FE-620E-4A51-85AB-55EE8DD12E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3ED-559C-43DF-B190-D78949A1C4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B6B-2F87-4CCA-A8A1-A0B1812B1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13B-E7F7-4211-BC66-C790A3B8E2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B83-7E86-4B1E-9C6B-40932937E1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C9B-27F6-41A0-94C0-78A3C14839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E4B-21EF-4014-B4C5-636D44FE20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43F-86F4-467A-AF57-B09B0B5CC1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702-1EC4-435E-B04B-82AC8F075F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068A-2A0D-43FC-9897-2FA9CE6D9A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3504-CBF9-46DA-89F1-CD1CCEA35D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B661-307B-489C-AE5D-B0514BD0A9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673C-1101-4895-A36D-65EE38AE6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A34E-D087-4109-9C87-F4BA2D700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A5C-6BB2-4825-84C3-6696F333E1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Accounting 1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43080" indent="-343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43080" indent="-3430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43080" indent="-3430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0CA-D464-4E93-9760-F23ED03BA9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Accounting 1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5CAA-7373-42AB-B8E0-2DB1945C21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Accounting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213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1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1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he Simple Ledge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8280" y="1972440"/>
            <a:ext cx="2879640" cy="48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62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5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944F-0495-49B6-91A8-47B77673A117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1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981000"/>
            <a:ext cx="880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2: Pacific Trucking Balance She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1" name="Picture 5" descr="fg003_ppt_acct1_7e_tr"/>
          <p:cNvPicPr/>
          <p:nvPr/>
        </p:nvPicPr>
        <p:blipFill>
          <a:blip r:embed="rId1"/>
          <a:stretch/>
        </p:blipFill>
        <p:spPr>
          <a:xfrm>
            <a:off x="631800" y="1442880"/>
            <a:ext cx="8507520" cy="398016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C92-B443-45E1-A0F4-B29C5A075590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95280" y="981000"/>
            <a:ext cx="880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3: Pacific Trucking Ledger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Opening Bala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7442-4448-43E5-A71D-441477DDF153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6" name="Picture 8" descr="fg004_ppt_acct1_7e_tr"/>
          <p:cNvPicPr/>
          <p:nvPr/>
        </p:nvPicPr>
        <p:blipFill>
          <a:blip r:embed="rId1"/>
          <a:stretch/>
        </p:blipFill>
        <p:spPr>
          <a:xfrm>
            <a:off x="541440" y="1916280"/>
            <a:ext cx="85150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3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95280" y="981000"/>
            <a:ext cx="8879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gure 4.5: Pacific Trucking Ledger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 Transactions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9" name="Picture 10" descr="fg005_ppt_acct1_7e_tr-01"/>
          <p:cNvPicPr/>
          <p:nvPr/>
        </p:nvPicPr>
        <p:blipFill>
          <a:blip r:embed="rId1"/>
          <a:stretch/>
        </p:blipFill>
        <p:spPr>
          <a:xfrm>
            <a:off x="200160" y="2276640"/>
            <a:ext cx="9432720" cy="297324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9CB-798F-4252-AA02-50381166FFC6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4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88880" y="981000"/>
            <a:ext cx="871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9: Completed Ledger for Pacific Trucking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73" name="Picture 4" descr="fg006_ppt_acct1_7e_tr"/>
          <p:cNvPicPr/>
          <p:nvPr/>
        </p:nvPicPr>
        <p:blipFill>
          <a:blip r:embed="rId1"/>
          <a:stretch/>
        </p:blipFill>
        <p:spPr>
          <a:xfrm>
            <a:off x="344520" y="1400040"/>
            <a:ext cx="8929800" cy="367200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DE9-969E-429C-94B2-06FFA649D241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Les MacKay - STC</cp:lastModifiedBy>
  <cp:lastPrinted>2012-11-26T19:22:02Z</cp:lastPrinted>
  <dcterms:modified xsi:type="dcterms:W3CDTF">2015-03-12T12:40:07Z</dcterms:modified>
  <cp:revision>8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